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F5D7-DDF9-43DF-8925-3C42DFFC6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9DE2-0ABC-4F8E-AFB0-E3D046277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E40D-8CDC-4323-A2B7-86F9476BB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2FF7-5778-4C97-B3F8-25E41770C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8EC7-84F5-47AC-B73B-D06F089F2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101A-7C15-4DCE-AE76-C156DAA57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9BD8-C44C-4D42-8CE8-F6803D626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7E8D-F30B-430E-A070-FB47477A3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8F6E-6564-4CE2-AC84-480091779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6D18-6E4D-4A2E-9CC0-B64796D36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293D-C302-405C-B439-1316149A7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A830-0853-4DEF-9F50-E459DB3CB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66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9BC8D-A7F1-43EA-85AE-561F48266C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66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132000" y="2276640"/>
            <a:ext cx="3381480" cy="36003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395280" y="765000"/>
            <a:ext cx="8569440" cy="1511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Legyünk mi a húsvéti nyulak!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66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547640" y="549360"/>
            <a:ext cx="5373720" cy="54007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133440" y="909000"/>
            <a:ext cx="240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zellemi próbatétel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8000" y="1771920"/>
            <a:ext cx="4249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 Állapítsd meg, mekkora utat kell bejárnod, ha Négyszögletű Kerek Erdőt körbesétálod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5651640" y="1557360"/>
            <a:ext cx="920520" cy="8762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763640" y="2386440"/>
            <a:ext cx="489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 Hány cm szalaggal kell körbekötni a húsvéti nyúl kosarát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891440" y="3140640"/>
            <a:ext cx="413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 Számítsd ki a húsvéti asztal hiányzó oldalát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5580000" y="2924280"/>
            <a:ext cx="920880" cy="8762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894680" y="3932640"/>
            <a:ext cx="413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 Mekkorák a téglalapok, négyzetek kerületei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5508720" y="2205000"/>
            <a:ext cx="920520" cy="8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7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8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66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1979640" y="1052640"/>
          <a:ext cx="5184720" cy="518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1052640"/>
                    <a:ext cx="5184720" cy="51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232560" y="187920"/>
            <a:ext cx="569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kkora a különböző színű téglalapok és négyzetek kerülete, ha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324000" y="620640"/>
          <a:ext cx="342720" cy="34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4000" y="620640"/>
                    <a:ext cx="34272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680040" y="619560"/>
            <a:ext cx="191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gy oldala=1 egysé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66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547640" y="549360"/>
            <a:ext cx="5373720" cy="54007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3133440" y="909000"/>
            <a:ext cx="240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zellemi próbatétel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908000" y="1771920"/>
            <a:ext cx="4249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 Állapítsd meg, mekkora utat kell bejárnod, ha Négyszögletű Kerek Erdőt körbesétálod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5651640" y="1557360"/>
            <a:ext cx="920520" cy="8762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763640" y="2386440"/>
            <a:ext cx="489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 Hány cm szalaggal kell körbekötni a húsvéti nyúl kosarát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891440" y="3140640"/>
            <a:ext cx="413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 Számítsd ki a húsvéti asztal hiányzó oldalát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5580000" y="2924280"/>
            <a:ext cx="920880" cy="8762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894680" y="3932640"/>
            <a:ext cx="413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 Mekkorák a téglalapok, négyzetek kerületei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5724360" y="2205000"/>
            <a:ext cx="920880" cy="8762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5508720" y="3716280"/>
            <a:ext cx="920520" cy="8762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979640" y="4865760"/>
            <a:ext cx="47847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189880" y="465192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 Keresd meg a tojásokat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66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250920" y="189000"/>
            <a:ext cx="8443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avaszdi eldugta a tojásokat az erdő különböző pontjain! Megadta a tojások pontos helyét! Neked kell megtalálnod azokat és jelölni a térképen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484360" y="907920"/>
          <a:ext cx="5715000" cy="549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907920"/>
                    <a:ext cx="5715000" cy="549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827640" y="1263960"/>
            <a:ext cx="46872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J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 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 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 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 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2484360" y="907920"/>
          <a:ext cx="5743800" cy="5515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907920"/>
                    <a:ext cx="5743800" cy="551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7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2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2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2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500"/>
                                        <p:tgtEl>
                                          <p:spTgt spid="12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2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2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2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12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2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2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2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500"/>
                                        <p:tgtEl>
                                          <p:spTgt spid="12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4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66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908000" y="692280"/>
            <a:ext cx="5851800" cy="58798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81080" y="356040"/>
            <a:ext cx="896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épzeljétek, Négyszögletű Kerek Erdő lakói húsvéti nyuszit választanak magukna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926520" y="1126440"/>
            <a:ext cx="13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eltétele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77800" y="1774080"/>
            <a:ext cx="297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gyen 2 hatalmas füled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33800" y="2275920"/>
            <a:ext cx="288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Legyen két óriási kezed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37440" y="4004640"/>
            <a:ext cx="211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zeresd a csokit!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93440" y="2851920"/>
            <a:ext cx="231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gyél mosolygós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94520" y="3428280"/>
            <a:ext cx="23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gyél szorgalma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66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50920" y="187920"/>
            <a:ext cx="309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érd le a kezed kerületét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95280" y="907920"/>
            <a:ext cx="4143240" cy="51339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472360" y="1177560"/>
            <a:ext cx="129780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szközö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Papí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Ceruz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Oll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dza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Vonalz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284720" y="3139560"/>
            <a:ext cx="51372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1. lépés: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Körberajzolom a kezemet a papírr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2. lépés: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A madzagot végigvezetem a kezem körvonalá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3. lépés: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Levágom a madzago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4. lépés: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Lemérem, mekkora a madzag hosszúság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66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908000" y="1197000"/>
            <a:ext cx="5373720" cy="54007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493800" y="1556640"/>
            <a:ext cx="240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zellemi próbatétel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0920" y="259200"/>
            <a:ext cx="76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hhoz, hogy igazán jó húsvéti nyulak legyünk, el kell végeznünk egy-két agytornát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268360" y="2419560"/>
            <a:ext cx="4249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 Állapítsd meg, mekkora utat kell bejárnod, ha Négyszögletű Kerek Erdőt körbesétálo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2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66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2843280" y="2060640"/>
          <a:ext cx="5616360" cy="422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3280" y="2060640"/>
                    <a:ext cx="5616360" cy="42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5726160" y="63079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508720" y="1627920"/>
            <a:ext cx="37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412360" y="3933000"/>
            <a:ext cx="3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533800" y="3933000"/>
            <a:ext cx="3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48320" y="187920"/>
            <a:ext cx="866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z egyik oldala annyiszor 100 méter, mint ahány óriáslépést megteszel a tanteremtől a tanári ajtóig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79280" y="619560"/>
            <a:ext cx="8642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 másik oldala annyiszor 100 méter, mint ahány óriáslépést megteszel a tanteremtől a lánymosdó ajtajáig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24720" y="1196280"/>
            <a:ext cx="51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66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547640" y="549360"/>
            <a:ext cx="5373720" cy="54007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133440" y="909000"/>
            <a:ext cx="240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zellemi próbatétel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908000" y="1771920"/>
            <a:ext cx="4249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 Állapítsd meg, mekkora utat kell bejárnod, ha Négyszögletű Kerek Erdőt körbesétálod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5651640" y="1557360"/>
            <a:ext cx="920520" cy="8762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763640" y="2386440"/>
            <a:ext cx="489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 Hány cm szalaggal kell körbekötni a húsvéti nyúl kosarát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9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1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66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2268360" y="1268280"/>
          <a:ext cx="1190880" cy="119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8360" y="1268280"/>
                    <a:ext cx="1190880" cy="119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0" y="0"/>
            <a:ext cx="134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 húsvéti kosár szája négyzet alakú, oldala 5/4 dm hosszú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ány cm hosszú szalaggal kell bekötni a kosár száját, ha a masnihoz összesen még 2 dm szalag kell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250920" y="836640"/>
          <a:ext cx="1542960" cy="2076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920" y="836640"/>
                    <a:ext cx="1542960" cy="207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4067640" y="1267200"/>
            <a:ext cx="43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 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68720" y="1627560"/>
            <a:ext cx="52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=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5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66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476360" y="620640"/>
            <a:ext cx="5373720" cy="54007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3061800" y="980280"/>
            <a:ext cx="240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zellemi próbatétel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836720" y="1843560"/>
            <a:ext cx="4249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 Állapítsd meg, mekkora utat kell bejárnod, ha Négyszögletű Kerek Erdőt körbesétálod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580000" y="1628640"/>
            <a:ext cx="920880" cy="8766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692360" y="2457720"/>
            <a:ext cx="48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 Hány cm szalaggal kell körbekötni a húsvéti nyúl kosarát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5580000" y="2347920"/>
            <a:ext cx="920880" cy="8762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820160" y="3211920"/>
            <a:ext cx="413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 Számítsd ki a húsvéti asztal hiányzó oldalát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5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6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7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66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64000" y="258840"/>
            <a:ext cx="5113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 húsvéti asztal csupa finomságokkal van megrakva. Mekkora annak az asztalnak az oldala, amelyikről tudjuk, hogy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564000" y="1051200"/>
            <a:ext cx="5257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téglalap alak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egyik oldala kétszer akkora, mint a mási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kerülete 36 d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179280" y="189000"/>
          <a:ext cx="3311640" cy="20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89000"/>
                    <a:ext cx="3311640" cy="20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250920" y="2492280"/>
          <a:ext cx="1523880" cy="98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920" y="2492280"/>
                    <a:ext cx="1523880" cy="98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5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5T14:44:54Z</dcterms:created>
  <dc:creator>Bogesz</dc:creator>
  <dc:description/>
  <dc:language>en-US</dc:language>
  <cp:lastModifiedBy>Bogesz</cp:lastModifiedBy>
  <dcterms:modified xsi:type="dcterms:W3CDTF">2010-03-18T20:14:40Z</dcterms:modified>
  <cp:revision>7</cp:revision>
  <dc:subject/>
  <dc:title>1. dia</dc:title>
</cp:coreProperties>
</file>